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CBCE-C279-4CE1-9474-13E0FC4CA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1544-35F3-4CD4-A6FC-4B8388824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A0AB-A0BF-472E-87B7-1EDEF538C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D68F-8684-4A30-9B4B-43767DDA7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9B8E-57D7-4303-8DD9-311988810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CF0F-8E3C-47D4-A661-22A526735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D76D-7605-4CD4-8962-319D3716D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E436-5AB8-429E-99CD-6168F97CA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9A0F-8AD5-40EA-A91F-D382E187F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42FE-0256-431A-845F-578305935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19D1-3677-4978-9883-77CBC5F29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BA9A-14D2-4279-A7DF-0D53D52FB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8241-8ABD-4C79-912F-D8845094A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D917-6513-45EA-8532-15279C539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D673-CCD8-4A58-8686-D0FA0AC09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F04-D669-4B1A-A3EC-F5EAAA5D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FB8-AC91-4D90-BAAF-80679BDC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699-87C3-4477-86D2-F8506C8D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8CD-F7F3-46B7-B1F6-0F3FA999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D8F-8492-4767-884D-80B26552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47E-301E-459A-AE8B-01B5FEBA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914-D632-4D4E-B7ED-B62C31E0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1BE-5472-4C62-A7D5-61320601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3DE-6534-4522-9774-6D9424EE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E4B-3513-4C7E-AD26-600270B3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B76-6226-4A99-B472-AB704572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55B-C12C-4295-8075-D1C9AC2E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91E9-3E3B-4632-93B8-D6B3EC3F7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5A27-B938-4C25-96C4-1C7593303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3360" y="-360"/>
            <a:ext cx="8426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ps for Designing an Interdisciplinary, Integrated Unit of Study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on a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unit 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he title is the centering topic for the stu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Identify a major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 concep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serve as a suitable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conceptu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le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your stu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he conceptual lens draws thinking above the topic to the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ntegrated thinking sees the conceptual and transferable patterns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s of knowled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anging the conceptual lens changes the unit focus. For example, with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 Body theme, the lens could be “Systems,” “Structure,” or   “Change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eb the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 sub-topics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 sub-concep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tudy, by  subject or area, around the concept and unit tit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-top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sted around this content planning web will be specific (e.g., “Amazon Rainforest” or “Early Americans”;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-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concep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a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abitats, shelter, needs). Underline all sub-concepts around the web. These will provide the fuel for writing generaliz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rite a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unit over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gage student interest and introduce the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7EBA-37DE-47F9-88C5-D98BAE369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763200" y="22860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imes New Roman"/>
              </a:rPr>
              <a:t>Scoring Gu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095880" y="18288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095880" y="2571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095880" y="337176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095880" y="428616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35120" y="2286000"/>
            <a:ext cx="272880" cy="228852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imes New Roman"/>
              </a:rPr>
              <a:t>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141920" y="42130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07960" y="1257480"/>
            <a:ext cx="8128080" cy="52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010280" y="34290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7010280" y="2571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7010280" y="18288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7010280" y="4286160"/>
            <a:ext cx="507960" cy="4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7924680" y="34290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7924680" y="25146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7924680" y="18288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7924680" y="428616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5894280" y="5657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6807240" y="588636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 rot="18023400">
            <a:off x="5950080" y="369360"/>
            <a:ext cx="18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sible Pts. or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 rot="17776800">
            <a:off x="6925680" y="62640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f-Ass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 flipH="1" rot="17826600">
            <a:off x="7662960" y="34416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cher Ass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625760" y="977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oring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7823160" y="588636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533520" y="5029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>
            <a:off x="2057400" y="5029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520200" y="5067360"/>
            <a:ext cx="133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ing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FCF9-D8B7-4DFB-9294-12445752F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Ob BT"/>
              </a:rPr>
              <a:t>Suggested Learning Exper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85800" y="1523880"/>
            <a:ext cx="466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889520" y="387360"/>
            <a:ext cx="1523880" cy="576360"/>
          </a:xfrm>
          <a:prstGeom prst="leftRightArrow">
            <a:avLst>
              <a:gd name="adj1" fmla="val 50000"/>
              <a:gd name="adj2" fmla="val 52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685800" y="152280"/>
            <a:ext cx="4191120" cy="838440"/>
          </a:xfrm>
          <a:prstGeom prst="horizontalScroll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 rot="1466400">
            <a:off x="6533640" y="-6480"/>
            <a:ext cx="381240" cy="13827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 rot="1466400">
            <a:off x="7314840" y="228240"/>
            <a:ext cx="380880" cy="11253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 rot="1466400">
            <a:off x="8153280" y="228600"/>
            <a:ext cx="381240" cy="10764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8502480" y="624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 rot="17637000">
            <a:off x="5988600" y="522000"/>
            <a:ext cx="13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dur. Und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 rot="17653800">
            <a:off x="7123320" y="610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 rot="17614200">
            <a:off x="7812000" y="62280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ey Sk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6019920" y="1371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68580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77724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601992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861048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8"/>
          <p:cNvSpPr/>
          <p:nvPr/>
        </p:nvSpPr>
        <p:spPr>
          <a:xfrm>
            <a:off x="6019920" y="6324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6019920" y="1905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0"/>
          <p:cNvSpPr/>
          <p:nvPr/>
        </p:nvSpPr>
        <p:spPr>
          <a:xfrm>
            <a:off x="6019920" y="25909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1"/>
          <p:cNvSpPr/>
          <p:nvPr/>
        </p:nvSpPr>
        <p:spPr>
          <a:xfrm>
            <a:off x="6019920" y="3352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6019920" y="4038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6019920" y="4800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6019920" y="54864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 rot="10200">
            <a:off x="4938480" y="483840"/>
            <a:ext cx="14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62928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845172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5F25-7E72-4CEE-A589-80716954B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639720" y="13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840" y="30492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Uni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9831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5020560" y="3049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Teache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533520" y="228600"/>
            <a:ext cx="3276360" cy="609480"/>
          </a:xfrm>
          <a:custGeom>
            <a:avLst/>
            <a:gdLst>
              <a:gd name="textAreaLeft" fmla="*/ 0 w 3276360"/>
              <a:gd name="textAreaRight" fmla="*/ 3276720 w 3276360"/>
              <a:gd name="textAreaTop" fmla="*/ 78840 h 609480"/>
              <a:gd name="textAreaBottom" fmla="*/ 530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4724280" y="228600"/>
            <a:ext cx="3276720" cy="609480"/>
          </a:xfrm>
          <a:custGeom>
            <a:avLst/>
            <a:gdLst>
              <a:gd name="textAreaLeft" fmla="*/ 0 w 3276720"/>
              <a:gd name="textAreaRight" fmla="*/ 3277080 w 3276720"/>
              <a:gd name="textAreaTop" fmla="*/ 78840 h 609480"/>
              <a:gd name="textAreaBottom" fmla="*/ 530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844848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1C9B-08D3-4CA2-B27B-462A32C96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2"/>
          <p:cNvSpPr txBox="1"/>
          <p:nvPr/>
        </p:nvSpPr>
        <p:spPr>
          <a:xfrm>
            <a:off x="609480" y="0"/>
            <a:ext cx="2565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Plan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3962520" y="533520"/>
            <a:ext cx="198108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6553080" y="304920"/>
            <a:ext cx="198144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023360" y="555480"/>
            <a:ext cx="156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t Tit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ceptual Le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615000" y="555480"/>
            <a:ext cx="118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jec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de Lev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e Fr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(s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036680" y="1731960"/>
            <a:ext cx="8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iti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125240" y="441180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33520" y="1143000"/>
            <a:ext cx="2819160" cy="1523880"/>
          </a:xfrm>
          <a:prstGeom prst="horizontalScroll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833400" y="137160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during Understanding(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1"/>
          <p:cNvSpPr/>
          <p:nvPr/>
        </p:nvSpPr>
        <p:spPr>
          <a:xfrm flipV="1">
            <a:off x="3255840" y="3133800"/>
            <a:ext cx="295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622440" y="2590920"/>
            <a:ext cx="2654280" cy="35812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>
            <a:off x="6248520" y="1676520"/>
            <a:ext cx="2514600" cy="44956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292040" y="26668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6627960" y="17524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arning Exper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6"/>
          <p:cNvSpPr/>
          <p:nvPr/>
        </p:nvSpPr>
        <p:spPr>
          <a:xfrm>
            <a:off x="6049800" y="5092560"/>
            <a:ext cx="320760" cy="1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3218040" y="2259000"/>
            <a:ext cx="3571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8"/>
          <p:cNvSpPr/>
          <p:nvPr/>
        </p:nvSpPr>
        <p:spPr>
          <a:xfrm flipH="1">
            <a:off x="1189080" y="2409840"/>
            <a:ext cx="3240" cy="37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629040" y="38088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struc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0"/>
          <p:cNvSpPr/>
          <p:nvPr/>
        </p:nvSpPr>
        <p:spPr>
          <a:xfrm>
            <a:off x="3549600" y="1722600"/>
            <a:ext cx="2527200" cy="2579400"/>
          </a:xfrm>
          <a:custGeom>
            <a:avLst/>
            <a:gdLst>
              <a:gd name="textAreaLeft" fmla="*/ 123120 w 2527200"/>
              <a:gd name="textAreaRight" fmla="*/ 2404080 w 2527200"/>
              <a:gd name="textAreaTop" fmla="*/ 123120 h 2579400"/>
              <a:gd name="textAreaBottom" fmla="*/ 2456280 h 2579400"/>
            </a:gdLst>
            <a:ahLst/>
            <a:rect l="textAreaLeft" t="textAreaTop" r="textAreaRight" b="textAreaBottom"/>
            <a:pathLst>
              <a:path w="21600" h="22046">
                <a:moveTo>
                  <a:pt x="3600" y="0"/>
                </a:moveTo>
                <a:arcTo wR="3600" hR="3600" stAng="16200000" swAng="-5400000"/>
                <a:lnTo>
                  <a:pt x="0" y="18446"/>
                </a:lnTo>
                <a:arcTo wR="3600" hR="3600" stAng="10800000" swAng="-5400000"/>
                <a:lnTo>
                  <a:pt x="18000" y="2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1"/>
          <p:cNvSpPr/>
          <p:nvPr/>
        </p:nvSpPr>
        <p:spPr>
          <a:xfrm>
            <a:off x="3579840" y="4405320"/>
            <a:ext cx="2484360" cy="1776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2"/>
          <p:cNvSpPr/>
          <p:nvPr/>
        </p:nvSpPr>
        <p:spPr>
          <a:xfrm>
            <a:off x="6046920" y="3132000"/>
            <a:ext cx="320400" cy="1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BB0F-C55E-456D-A8B3-2537E81CC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30640" y="927000"/>
            <a:ext cx="2819160" cy="266724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749640" y="936720"/>
            <a:ext cx="1887120" cy="34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essment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757440" y="83808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structional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514520" y="384804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erials/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430200" y="3825720"/>
            <a:ext cx="3975120" cy="266724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196680" y="382104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acher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246240" y="912960"/>
            <a:ext cx="2819160" cy="26668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9"/>
          <p:cNvSpPr txBox="1"/>
          <p:nvPr/>
        </p:nvSpPr>
        <p:spPr>
          <a:xfrm>
            <a:off x="635040" y="0"/>
            <a:ext cx="25398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Plan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631920" y="25560"/>
            <a:ext cx="2436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structor_____________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6157800" y="936720"/>
            <a:ext cx="2819520" cy="26668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4844880" y="3807000"/>
            <a:ext cx="3973680" cy="26668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3648240" y="947880"/>
            <a:ext cx="21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ferentiation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307080" y="1066680"/>
            <a:ext cx="26830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Direct I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Interactive L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Inqui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KWL (Know, Wan  to Know, Learn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Question – All 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Think-Pair-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Whip Around (…the circle with respon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Note-Ta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Graphic-Organiz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Summary Reflection Stat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Reflective Discussion: Socratic Questioning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-ended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Cooperativ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Independent Study/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Writing as Thinking: The I-Search Essa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amed Paragraph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6387480" y="1279440"/>
            <a:ext cx="2507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Performance Ta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Forced Choice  (multiple choice, T/F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Open-ended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 Int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Obser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Peer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Metacognitive Response (reflecting up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wn  think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 Self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3376440" y="1276200"/>
            <a:ext cx="23036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Multiple Intellig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perform in different modali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Peer Tu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Leveled “Big Idea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generaliz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Leveled Guiding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Differentiated Instructional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Differentiated Assess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lternative and leve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Extens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BB0A-581F-4C3A-866D-E7D26AC59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Steps continued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ainstorm some of the </a:t>
            </a:r>
            <a:r>
              <a:rPr b="1" lang="en-US" sz="1900" spc="-1" strike="noStrike">
                <a:solidFill>
                  <a:srgbClr val="1f497d"/>
                </a:solidFill>
                <a:latin typeface="Calibri"/>
              </a:rPr>
              <a:t>enduring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1f497d"/>
                </a:solidFill>
                <a:latin typeface="Calibri"/>
              </a:rPr>
              <a:t>understandings</a:t>
            </a:r>
            <a:r>
              <a:rPr b="1" i="1" lang="en-US" sz="1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generalizations/ essential  understandings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at you would expect students to derive from the stud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Generalizations answer the question, “So what? Why should 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arn these facts?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Generalizations go beyond the facts to the conceptual a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ransferable level of understanding. (This facilitates conceptu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nking and deep understanding.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ainstorm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900" spc="-1" strike="noStrike">
                <a:solidFill>
                  <a:srgbClr val="1f497d"/>
                </a:solidFill>
                <a:latin typeface="Calibri"/>
              </a:rPr>
              <a:t>guiding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1f497d"/>
                </a:solidFill>
                <a:latin typeface="Calibri"/>
              </a:rPr>
              <a:t>questions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 facilitate the student’s study toward the essential, enduring understanding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Guiding Questions are factual and conceptual.  A unit may als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ve 1 or 2  provocative debate questions which have no righ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r wrong answer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82A8-4E4A-4369-A5BC-2585D2BE6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Steps continued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 Identify the </a:t>
            </a:r>
            <a:r>
              <a:rPr b="1" lang="en-US" sz="1700" spc="-1" strike="noStrike">
                <a:solidFill>
                  <a:srgbClr val="1f497d"/>
                </a:solidFill>
                <a:latin typeface="Times New Roman"/>
              </a:rPr>
              <a:t>specific knowledge </a:t>
            </a: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(critical topics and/or facts)</a:t>
            </a:r>
            <a:r>
              <a:rPr b="1" lang="en-US" sz="1700" spc="-1" strike="noStrike">
                <a:solidFill>
                  <a:srgbClr val="1f497d"/>
                </a:solidFill>
                <a:latin typeface="Times New Roman"/>
              </a:rPr>
              <a:t> and skill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that students must internaliz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tudents will “Know” and “Key skills [able to do]…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. Code the knowledge and skills with </a:t>
            </a:r>
            <a:r>
              <a:rPr b="1" lang="en-US" sz="1700" spc="-1" strike="noStrike">
                <a:solidFill>
                  <a:srgbClr val="1f497d"/>
                </a:solidFill>
                <a:latin typeface="Times New Roman"/>
              </a:rPr>
              <a:t>assessment codes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(AC)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to show the other evidence that is planned beyond the performance tasks. Include these assessments in the unit packe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9. Write a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ulminating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700" spc="-1" strike="noStrike">
                <a:solidFill>
                  <a:srgbClr val="1f497d"/>
                </a:solidFill>
                <a:latin typeface="Times New Roman"/>
              </a:rPr>
              <a:t>performance tasks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show the depth of learning. The performance tasks answer the question, “What do I want students to know, understand and be able to do as a result of this unit of study?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- Use the formula, “What,”” Why,” and “How” in writing to ensur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at the performance measures to the level of deep understand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the “Why”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0. Design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1700" spc="-1" strike="noStrike">
                <a:solidFill>
                  <a:srgbClr val="1f497d"/>
                </a:solidFill>
                <a:latin typeface="Times New Roman"/>
              </a:rPr>
              <a:t> scoring guide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criteria and standard) to assess the performance task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- For each criteria assessed in a given mode, ask yourself, “What do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t look like?” at the standard level of performance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88AD-0644-40FC-AC97-8323062BA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Steps continued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Desig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ckw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e performance task(s)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writ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rning experie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nsure student success on the performance task(s). Design other learning experiences to address the other unit requirement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be able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Design backwards, then move the Learning Experiences page prior to the Culminating Performance Task so you can t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ew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 Identify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unit resou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nclude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teacher no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ssist planning and instr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on P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ges can be used to break down the unit plan into more manageable segments for instruction. The lesson plan may cover 3 to 5 day segments. A computer “cut and paste” method should work with some fleshing out of questions and Learning Experienc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5DDA-F3B5-4CF8-B39C-1F68C74EB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0920" y="685800"/>
            <a:ext cx="354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t Title: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ceptual Lens: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>
            <a:off x="1295280" y="2514600"/>
            <a:ext cx="274320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9560" y="6149880"/>
            <a:ext cx="44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igner(s):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8160" y="25909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255120" y="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Content/Concept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5638680" y="1905120"/>
            <a:ext cx="2971800" cy="396216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3962160"/>
              <a:gd name="textAreaBottom" fmla="*/ 3817080 h 3962160"/>
            </a:gdLst>
            <a:ahLst/>
            <a:rect l="textAreaLeft" t="textAreaTop" r="textAreaRight" b="textAreaBottom"/>
            <a:pathLst>
              <a:path w="21600" h="28797">
                <a:moveTo>
                  <a:pt x="3600" y="0"/>
                </a:moveTo>
                <a:arcTo wR="3600" hR="3600" stAng="16200000" swAng="-5400000"/>
                <a:lnTo>
                  <a:pt x="0" y="25197"/>
                </a:lnTo>
                <a:arcTo wR="3600" hR="3600" stAng="10800000" swAng="-5400000"/>
                <a:lnTo>
                  <a:pt x="18000" y="28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095520" y="204948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533520" y="304920"/>
            <a:ext cx="2819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it Planne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717520" y="61722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de Level: 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B6CD-D289-47B0-B505-77F6E1030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220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uring Understanding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Guiding Ques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generaliz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-150840" y="914400"/>
            <a:ext cx="71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573800" y="923760"/>
            <a:ext cx="409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228600" y="0"/>
            <a:ext cx="3200400" cy="68580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4800600" y="0"/>
            <a:ext cx="3200400" cy="68580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906800" y="74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38836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36576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733920" y="38088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5C6E-4EA7-4A51-A916-82D6F80F0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36440" y="1652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ritical Content and Ski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20920" y="8222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will know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4000" y="36576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y skill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533520" y="838080"/>
            <a:ext cx="8305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33520" y="3581280"/>
            <a:ext cx="8305560" cy="2667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8305920" y="83808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8384040" y="83808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421160" y="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 = Assessment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172200" y="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Quizz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m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Te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Work Sample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Dialo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tudent Self-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685800" y="1295280"/>
            <a:ext cx="7332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685800" y="4191120"/>
            <a:ext cx="746748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380880" y="0"/>
            <a:ext cx="3657600" cy="762120"/>
          </a:xfrm>
          <a:custGeom>
            <a:avLst/>
            <a:gdLst>
              <a:gd name="textAreaLeft" fmla="*/ 0 w 3657600"/>
              <a:gd name="textAreaRight" fmla="*/ 3657960 w 365760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3341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8305920" y="35812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8370000" y="35924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846432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4191120" y="83808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4751280" y="86688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4210560" y="89388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4195800" y="3598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4780080" y="360036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4236120" y="36133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3581280" y="35812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7620120" y="9144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>
            <a:off x="7620120" y="35812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>
            <a:off x="3581280" y="8380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3582720" y="838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697520" y="76212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3582720" y="35053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7621560" y="35812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605160" y="6265800"/>
            <a:ext cx="61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e: No correlation needed between the Know and Key Skills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F2E6-5EF2-43B8-8788-689170E8E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435680" y="14940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ask Pl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63560" y="762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63200" y="1676520"/>
            <a:ext cx="49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:  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in order to understand tha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36280" y="281952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: (Engaging Scenario-Perform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2362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76880" y="76212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Investiga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04840" y="703440"/>
            <a:ext cx="8686800" cy="5638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846108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47720" y="185760"/>
            <a:ext cx="11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AD81-CEBC-436D-B098-F0DCCFACF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732600" y="38592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to be used for evalu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33400" y="12114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24280" y="1243080"/>
            <a:ext cx="302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1200" y="16668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ep 3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ask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06440" y="936720"/>
            <a:ext cx="8305920" cy="541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8448480" y="0"/>
            <a:ext cx="5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4:19:55Z</dcterms:created>
  <dc:creator>H. Lynn Erickson</dc:creator>
  <dc:description/>
  <dc:language>en-US</dc:language>
  <cp:lastModifiedBy>jmcinnis</cp:lastModifiedBy>
  <dcterms:modified xsi:type="dcterms:W3CDTF">2008-06-11T14:39:02Z</dcterms:modified>
  <cp:revision>1</cp:revision>
  <dc:subject/>
  <dc:title>Steps for Designing an Interdisciplinary, Integrated Unit of Study...</dc:title>
</cp:coreProperties>
</file>